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932-A4C5-4215-A3CA-1000CE9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492-3530-46C3-9543-F49C829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0A2-FB5A-4B52-BC25-D9AC1F1B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92C-F5B0-445A-9C92-2F7E26AA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DAA-8260-4522-8B73-A2AA3705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6F0-149A-45ED-AA51-58BE1E8C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BFB6-93AC-4668-8567-AC2A2A09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322-8EAB-435A-92EF-14794AC1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BE77-B4E6-488F-85D5-00B145A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93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C7A2-898B-44C9-B7C3-7845A7AE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3A02-3820-4725-BF04-611644F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855-9960-4A84-A696-D04396E3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160-9737-49F4-B592-3F63DB9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4CD-5BC5-464B-BA11-CD1C8D8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6E6-8F89-4E9D-8F73-CF3D1C7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207F-C8DC-4797-9F3B-F649EE06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496C-5A11-458D-B6C3-69C829EE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98F-CCCB-4928-9FA0-D702F22F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809-F4D0-4274-BC6C-AC4990A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FA9-0079-43AA-A56E-718B92C3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93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651-2298-473C-A834-1741EC6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9DA-49C3-4DDD-A2A9-E6BC952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58D-BF9F-44A2-99F7-1C7C309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E6A-29F0-42AC-805B-F8E1923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2944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22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62C-0C64-48FC-B580-04BDBE8FA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8608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800280" y="6229080"/>
            <a:ext cx="21715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43480" y="6229080"/>
            <a:ext cx="32004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429320" y="6229080"/>
            <a:ext cx="20574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3A1-90D4-4711-BDF9-DFEFB9056A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86080" y="1828800"/>
            <a:ext cx="82422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4800600"/>
            <a:ext cx="5105520" cy="129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Montserrat Mil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Servicio de ge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Hospital Clínic. Barcelona.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02870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80773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33cc"/>
                </a:solidFill>
                <a:latin typeface="Comic Sans MS"/>
              </a:rPr>
              <a:t>SCREENING DEL SÍNDROME DEL CROMOSOMA X FRÁGIL EN 5000 RECIÉN NACIDOS VARONES CONSECUTIVOS DE LA POBLACIÓN ESPAÑO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cc"/>
                </a:solidFill>
                <a:latin typeface="Comic Sans MS"/>
              </a:rPr>
              <a:t>Precios (Chicago 2002)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VF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9000-11000 $ (1500000-180000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est DNA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3000 $ (50000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seguro sólo cubre el IVF en algunos casos de infertil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10% de las parejas son infért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50% tienen algún probl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1% FOP (SFX 10-20%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cc"/>
                </a:solidFill>
                <a:latin typeface="Comic Sans MS"/>
              </a:rPr>
              <a:t>Afectación en premutados: (Mujeres portadoras de la premutación y NTM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080" y="175212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nomalías en las estructurales cerebrales en premutadas (estudios MR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educción volumen: cerebelo, amígdala hipocampo y tála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educción niveles de expresión FMR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nomalias en NT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tax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embl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educción de FMRP, más evidente en los casos del  rango superior de la premut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cc"/>
                </a:solidFill>
                <a:latin typeface="Comic Sans MS"/>
              </a:rPr>
              <a:t>Expresión de otros de genes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mparan la expresión del 95% de los genes que se expresan en hipocampo entre un ratón Normal y un Knock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24 secuencio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43 disminuidas y 81 sobreexpres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08 secuencias análogas a genes humanos conoc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 genes candidatos (expresados x2 en el ratón knock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cc"/>
                </a:solidFill>
                <a:latin typeface="Comic Sans MS"/>
              </a:rPr>
              <a:t>Material y Métodos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958212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50280" indent="-350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jetivos: determinar la incidencia de FXS mediante un método simple y poco costo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0280" indent="-350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 estudiaron 5000 muestras anónimas de sangre impregnadas en papel Whatmann procedentes de varones del screening neonatal que se realiza en  Cataluñ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0280" indent="-350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étodo: amplificación por PC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las repeticiones CGG del 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loc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RAXA: la PCR está diseñada p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5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que los alelos de más de 53 CGG no amplifiqu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35600" y="4114800"/>
            <a:ext cx="4070160" cy="2592720"/>
            <a:chOff x="5835600" y="4114800"/>
            <a:chExt cx="4070160" cy="2592720"/>
          </a:xfrm>
        </p:grpSpPr>
        <p:sp>
          <p:nvSpPr>
            <p:cNvPr id="89" name=""/>
            <p:cNvSpPr/>
            <p:nvPr/>
          </p:nvSpPr>
          <p:spPr>
            <a:xfrm rot="16200000">
              <a:off x="8264520" y="582372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42 CG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8693640" y="5902920"/>
              <a:ext cx="8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&gt;200 CG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9013680" y="580464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29 CG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78520" y="6431040"/>
              <a:ext cx="10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5835600" y="4114800"/>
              <a:ext cx="40701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6200000">
              <a:off x="9242280" y="580464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18 CG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8461080" y="582372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Comic Sans MS"/>
                </a:rPr>
                <a:t>80 CG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1143000"/>
            <a:ext cx="8686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74320" y="123840"/>
            <a:ext cx="7955280" cy="1060560"/>
            <a:chOff x="1174320" y="123840"/>
            <a:chExt cx="7955280" cy="1060560"/>
          </a:xfrm>
        </p:grpSpPr>
        <p:sp>
          <p:nvSpPr>
            <p:cNvPr id="98" name=""/>
            <p:cNvSpPr/>
            <p:nvPr/>
          </p:nvSpPr>
          <p:spPr>
            <a:xfrm>
              <a:off x="4217040" y="123840"/>
              <a:ext cx="31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FX (4,976 sampl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74320" y="762120"/>
              <a:ext cx="195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 ampl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83400" y="8161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frag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2480" y="762120"/>
              <a:ext cx="25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fragments or sm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9440" y="534960"/>
              <a:ext cx="575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9440" y="5349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8720" y="5349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2800" y="5349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70080" y="3483000"/>
            <a:ext cx="3371400" cy="1165320"/>
            <a:chOff x="1270080" y="3483000"/>
            <a:chExt cx="3371400" cy="1165320"/>
          </a:xfrm>
        </p:grpSpPr>
        <p:sp>
          <p:nvSpPr>
            <p:cNvPr id="107" name=""/>
            <p:cNvSpPr/>
            <p:nvPr/>
          </p:nvSpPr>
          <p:spPr>
            <a:xfrm>
              <a:off x="3261240" y="365760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0080" y="3483000"/>
              <a:ext cx="26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70080" y="348300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76840" y="348300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429000" y="3962520"/>
              <a:ext cx="4111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12920" y="2798640"/>
            <a:ext cx="4979880" cy="1846440"/>
            <a:chOff x="4012920" y="2798640"/>
            <a:chExt cx="4979880" cy="1846440"/>
          </a:xfrm>
        </p:grpSpPr>
        <p:sp>
          <p:nvSpPr>
            <p:cNvPr id="113" name=""/>
            <p:cNvSpPr/>
            <p:nvPr/>
          </p:nvSpPr>
          <p:spPr>
            <a:xfrm>
              <a:off x="5094720" y="293544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5680" y="2935440"/>
              <a:ext cx="25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fragments or sm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59560" y="2867040"/>
              <a:ext cx="157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59560" y="286704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286704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5360" y="279864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6000" y="327816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012920" y="3411360"/>
              <a:ext cx="1439640" cy="12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18200" y="1152360"/>
            <a:ext cx="3004200" cy="1635120"/>
            <a:chOff x="6118200" y="1152360"/>
            <a:chExt cx="3004200" cy="1635120"/>
          </a:xfrm>
        </p:grpSpPr>
        <p:sp>
          <p:nvSpPr>
            <p:cNvPr id="122" name=""/>
            <p:cNvSpPr/>
            <p:nvPr/>
          </p:nvSpPr>
          <p:spPr>
            <a:xfrm>
              <a:off x="7924680" y="2057400"/>
              <a:ext cx="1096920" cy="343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7360" y="1357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40160" y="1770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15680" y="1700280"/>
              <a:ext cx="11422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WO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8200" y="238608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78720" y="115236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75520" y="1770120"/>
              <a:ext cx="21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00960" y="1770120"/>
              <a:ext cx="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78720" y="170028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5520" y="1770120"/>
              <a:ext cx="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5520" y="218124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22920" y="241920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8000"/>
                  </a:solidFill>
                  <a:latin typeface="Comic Sans MS"/>
                </a:rPr>
                <a:t>(24 samp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120440" y="4375080"/>
            <a:ext cx="2557080" cy="1568520"/>
            <a:chOff x="7120440" y="4375080"/>
            <a:chExt cx="2557080" cy="1568520"/>
          </a:xfrm>
        </p:grpSpPr>
        <p:sp>
          <p:nvSpPr>
            <p:cNvPr id="135" name=""/>
            <p:cNvSpPr/>
            <p:nvPr/>
          </p:nvSpPr>
          <p:spPr>
            <a:xfrm>
              <a:off x="7120440" y="4468680"/>
              <a:ext cx="194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-2 X chromoso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-4 autosomal c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7600" y="5094360"/>
              <a:ext cx="2509920" cy="368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CONTAM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53400" y="437508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3760" y="557532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8000"/>
                  </a:solidFill>
                  <a:latin typeface="Comic Sans MS"/>
                </a:rPr>
                <a:t>(1 samp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355840" y="1482480"/>
            <a:ext cx="2206800" cy="3714840"/>
            <a:chOff x="2355840" y="1482480"/>
            <a:chExt cx="2206800" cy="3714840"/>
          </a:xfrm>
        </p:grpSpPr>
        <p:sp>
          <p:nvSpPr>
            <p:cNvPr id="140" name=""/>
            <p:cNvSpPr/>
            <p:nvPr/>
          </p:nvSpPr>
          <p:spPr>
            <a:xfrm>
              <a:off x="2376360" y="4649760"/>
              <a:ext cx="1509840" cy="5475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5840" y="4718160"/>
              <a:ext cx="15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omic Sans MS"/>
                </a:rPr>
                <a:t>N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84040" y="3621240"/>
              <a:ext cx="274680" cy="96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395520" y="1482480"/>
              <a:ext cx="1167120" cy="186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58720" y="3346560"/>
              <a:ext cx="136440" cy="274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525040" y="524844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Comic Sans MS"/>
              </a:rPr>
              <a:t>(4,920 sam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7360" y="1219320"/>
            <a:ext cx="2799360" cy="2219040"/>
            <a:chOff x="477360" y="1219320"/>
            <a:chExt cx="2799360" cy="2219040"/>
          </a:xfrm>
        </p:grpSpPr>
        <p:sp>
          <p:nvSpPr>
            <p:cNvPr id="147" name=""/>
            <p:cNvSpPr/>
            <p:nvPr/>
          </p:nvSpPr>
          <p:spPr>
            <a:xfrm>
              <a:off x="722160" y="2625840"/>
              <a:ext cx="789120" cy="498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5600" y="1600200"/>
              <a:ext cx="185112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DN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terna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3640" y="2249640"/>
              <a:ext cx="63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7240" y="2317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3240" y="293544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9440" y="12193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3640" y="2249640"/>
              <a:ext cx="12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3640" y="2249640"/>
              <a:ext cx="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7000" y="2249640"/>
              <a:ext cx="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1040" y="218124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7000" y="2728800"/>
              <a:ext cx="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360" y="30700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8000"/>
                  </a:solidFill>
                  <a:latin typeface="Comic Sans MS"/>
                </a:rPr>
                <a:t>(19 samp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22160" y="3608280"/>
            <a:ext cx="1830600" cy="2020320"/>
            <a:chOff x="722160" y="3608280"/>
            <a:chExt cx="1830600" cy="2020320"/>
          </a:xfrm>
        </p:grpSpPr>
        <p:sp>
          <p:nvSpPr>
            <p:cNvPr id="160" name=""/>
            <p:cNvSpPr/>
            <p:nvPr/>
          </p:nvSpPr>
          <p:spPr>
            <a:xfrm>
              <a:off x="722160" y="3608280"/>
              <a:ext cx="157644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pl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160" y="4711680"/>
              <a:ext cx="183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adioactive PCR (FRAXA,E, A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7360" y="4302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52760" y="5410080"/>
            <a:ext cx="3895920" cy="1369440"/>
            <a:chOff x="752760" y="5410080"/>
            <a:chExt cx="3895920" cy="1369440"/>
          </a:xfrm>
        </p:grpSpPr>
        <p:sp>
          <p:nvSpPr>
            <p:cNvPr id="164" name=""/>
            <p:cNvSpPr/>
            <p:nvPr/>
          </p:nvSpPr>
          <p:spPr>
            <a:xfrm>
              <a:off x="1425600" y="5410080"/>
              <a:ext cx="0" cy="4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52760" y="5856120"/>
              <a:ext cx="3895920" cy="923400"/>
              <a:chOff x="752760" y="5856120"/>
              <a:chExt cx="3895920" cy="92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752760" y="5856120"/>
                <a:ext cx="2062800" cy="916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INTERMEDI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REMU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FULL MU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9200" y="5862600"/>
                <a:ext cx="1599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8000"/>
                    </a:solidFill>
                    <a:latin typeface="Comic Sans MS"/>
                  </a:rPr>
                  <a:t>(11 sampl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8000"/>
                    </a:solidFill>
                    <a:latin typeface="Comic Sans MS"/>
                  </a:rPr>
                  <a:t>(4 sampl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8000"/>
                    </a:solidFill>
                    <a:latin typeface="Comic Sans MS"/>
                  </a:rPr>
                  <a:t>(2 sampl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419720" y="3494160"/>
            <a:ext cx="4103280" cy="2450880"/>
            <a:chOff x="4419720" y="3494160"/>
            <a:chExt cx="4103280" cy="2450880"/>
          </a:xfrm>
        </p:grpSpPr>
        <p:grpSp>
          <p:nvGrpSpPr>
            <p:cNvPr id="169" name=""/>
            <p:cNvGrpSpPr/>
            <p:nvPr/>
          </p:nvGrpSpPr>
          <p:grpSpPr>
            <a:xfrm>
              <a:off x="4840560" y="3494160"/>
              <a:ext cx="3682440" cy="2450880"/>
              <a:chOff x="4840560" y="3494160"/>
              <a:chExt cx="3682440" cy="2450880"/>
            </a:xfrm>
          </p:grpSpPr>
          <p:sp>
            <p:nvSpPr>
              <p:cNvPr id="170" name=""/>
              <p:cNvSpPr/>
              <p:nvPr/>
            </p:nvSpPr>
            <p:spPr>
              <a:xfrm>
                <a:off x="6467760" y="3494160"/>
                <a:ext cx="2055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ther markers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-X chr. (no FRAX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- autosomal mar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79240" y="4468680"/>
                <a:ext cx="2000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-2 X chromosom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-2 autosomal ch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40560" y="4991040"/>
                <a:ext cx="1718280" cy="642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XX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KLINEFEL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84880" y="4375080"/>
                <a:ext cx="246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73720" y="4375080"/>
                <a:ext cx="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36000" y="4307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13280" y="5576760"/>
                <a:ext cx="146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8000"/>
                    </a:solidFill>
                    <a:latin typeface="Comic Sans MS"/>
                  </a:rPr>
                  <a:t>(5 sampl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 flipV="1">
              <a:off x="4419720" y="5519520"/>
              <a:ext cx="30456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0058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Comic Sans MS"/>
              </a:rPr>
              <a:t>Prevalencias estimadas en la Población Española</a:t>
            </a:r>
            <a:endParaRPr b="0" lang="en-US" sz="32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15320" y="2651040"/>
            <a:ext cx="8756280" cy="30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arones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remutación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/1,2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tación Completa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/2,4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jeres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remutación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/4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tación Completa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/8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(afec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cc"/>
                </a:solidFill>
                <a:latin typeface="Comic Sans MS"/>
              </a:rPr>
              <a:t>Discusión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NO se detectan ni mosaicos ni mutaciones puntua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Las mutaciones completas han de ser deducid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Es un estudio real de población control sin seleccionar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Metodología rápida y poco costos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724280"/>
            <a:ext cx="9829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777777"/>
                </a:solidFill>
                <a:latin typeface="Comic Sans MS"/>
              </a:rPr>
              <a:t>Grandes variaciones en los result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777777"/>
                </a:solidFill>
                <a:latin typeface="Comic Sans MS"/>
              </a:rPr>
              <a:t>Difícil comparar datos debido a que se estudian poblaciones seleccionadas y la metodología tampoco es la mism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777777"/>
                </a:solidFill>
                <a:latin typeface="Comic Sans MS"/>
              </a:rPr>
              <a:t>Según paises amplio rango de prevalenci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777777"/>
                </a:solidFill>
                <a:latin typeface="Comic Sans MS"/>
              </a:rPr>
              <a:t>Estos resultados pueden aplicarse al apoblación españo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343400"/>
            <a:ext cx="5105520" cy="2311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Opciones reprodu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P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Afectación en premutados: (Mujeres portadoras de la premutación y NT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Comic Sans MS"/>
              </a:rPr>
              <a:t>Expresión de otr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0287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762120"/>
            <a:ext cx="85345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33cc"/>
                </a:solidFill>
                <a:latin typeface="Comic Sans MS"/>
              </a:rPr>
              <a:t>RESUMEN DE ALGUNOS DATOS DE LAS CHARLAS DE 8</a:t>
            </a:r>
            <a:r>
              <a:rPr b="1" lang="es-ES" sz="3000" spc="-1" strike="noStrike" baseline="30000">
                <a:solidFill>
                  <a:srgbClr val="0033cc"/>
                </a:solidFill>
                <a:latin typeface="Comic Sans MS"/>
              </a:rPr>
              <a:t>TH </a:t>
            </a:r>
            <a:r>
              <a:rPr b="1" lang="es-ES" sz="3000" spc="-1" strike="noStrike">
                <a:solidFill>
                  <a:srgbClr val="0033cc"/>
                </a:solidFill>
                <a:latin typeface="Comic Sans MS"/>
              </a:rPr>
              <a:t>iNTERNATIONAL CONFERENCE FRAGILE X CHICAGO 2002</a:t>
            </a:r>
            <a:r>
              <a:rPr b="1" lang="es-ES" sz="3000" spc="-1" strike="noStrike" baseline="30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cc"/>
                </a:solidFill>
                <a:latin typeface="Comic Sans MS"/>
              </a:rPr>
              <a:t>Opciones reproductivas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o hij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dop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onación gametos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TM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onación de esp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ujeres pre o Full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onación óvu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Test Genè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econcep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eimplanta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cc"/>
                </a:solidFill>
                <a:latin typeface="Comic Sans MS"/>
              </a:rPr>
              <a:t>Resultados generales de PGD (Chicago) (12 años experiencia)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98% de fiabi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43 transferencias de embri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79 embarazos </a:t>
            </a:r>
            <a:r>
              <a:rPr b="0" lang="es-ES" sz="3200" spc="-1" strike="noStrike">
                <a:solidFill>
                  <a:srgbClr val="ff6600"/>
                </a:solidFill>
                <a:latin typeface="Comic Sans MS"/>
              </a:rPr>
              <a:t>(32.5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 errores diagnósticos</a:t>
            </a:r>
            <a:r>
              <a:rPr b="0" lang="es-ES" sz="3200" spc="-1" strike="noStrike">
                <a:solidFill>
                  <a:srgbClr val="ff6600"/>
                </a:solidFill>
                <a:latin typeface="Comic Sans MS"/>
              </a:rPr>
              <a:t> (3.8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ibrosis quís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Comic Sans MS"/>
              </a:rPr>
              <a:t>X frág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rofia Muscular Duchen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3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cc"/>
                </a:solidFill>
                <a:latin typeface="Comic Sans MS"/>
              </a:rPr>
              <a:t>Resultados PGD en X frágil</a:t>
            </a:r>
            <a:endParaRPr b="0" lang="en-US" sz="4000" spc="-1" strike="noStrike">
              <a:solidFill>
                <a:srgbClr val="3366c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2610000"/>
            <a:ext cx="452412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6 famil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10 PG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18 cic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6 embaraz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Comic Sans MS"/>
              </a:rPr>
              <a:t>1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71360" y="173664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cc"/>
                </a:solidFill>
                <a:latin typeface="Comic Sans MS"/>
              </a:rPr>
              <a:t>(Chicago, 12 añ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562720"/>
            <a:ext cx="807696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cc"/>
                </a:solidFill>
                <a:latin typeface="Comic Sans MS"/>
              </a:rPr>
              <a:t>Siempre DP después del P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8:45:25Z</dcterms:created>
  <dc:creator>PRINSTON</dc:creator>
  <dc:description/>
  <dc:language>en-US</dc:language>
  <cp:lastModifiedBy>Informàtica</cp:lastModifiedBy>
  <cp:lastPrinted>2002-10-11T08:39:47Z</cp:lastPrinted>
  <dcterms:modified xsi:type="dcterms:W3CDTF">2002-10-11T08:59:53Z</dcterms:modified>
  <cp:revision>63</cp:revision>
  <dc:subject/>
  <dc:title>Aspectes genètics de la Craneosinostosi</dc:title>
</cp:coreProperties>
</file>